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71B9-0105-49FB-B1DB-D592CBF8311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BFE1-9F83-484B-A94D-F19AC81F3D7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7AB5-50E6-4D7B-A27A-EAB655359CD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933E-E451-4011-969B-67628C84234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6C29-1B45-4AB9-9A30-260AC4567F7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B75A-EBCE-4F02-845E-CF86EF58B62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51A-7CD8-4D77-8F1B-A90788CBA1C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391-1395-4891-BFF8-24505690738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16F3-2A76-4315-8A19-4739594FCCC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99C9-4719-46C3-A31B-5702DCB5A80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B78A-4ED8-4CAD-B65E-45B7617E3F0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6CAE-0FC2-4699-897B-C46B7905B85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16DF-AB8A-4E9D-A5C5-9797B0450F6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9142-8248-4842-A530-7062C9A8F3B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1D43-5228-4B51-A54E-46FC258ABAE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9E00-3F44-4A3F-8D1F-11F414BCBFA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7817-4082-4DC0-B0DA-11DFA5DD48E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C9C3-B007-4F77-9462-75B2D0E328D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283B-8CAC-4F80-888A-C96C9288126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C68A-0479-4BA7-84DF-57CD02C0B75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C812-80A7-4C81-90AF-14F17266007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AB99-DD2F-40D7-8D4C-280B8C500AF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9BF8-8A04-4A7D-BE83-E5620F42B8D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B5BA-A642-4EA3-9A73-FC9FFA6DD05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8D8D-8CB5-4F6B-A37A-006DD4FF44E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35CD-3972-41B6-BADB-40BAFBDB5E8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3B7-9BD0-4E7B-96A6-1162E075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70D-F7E1-47A9-AAEA-1B5E7CF7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BDD-C430-4A73-A17B-A116491A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485-2A41-40F9-B90B-B3676434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D49-8C52-45A8-AB88-03E8F9D7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83B-23CF-49F3-BC85-2950C371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EF5-3254-481C-8D4C-F6D02895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640-62DA-4103-8962-29BC2AB3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BA0-4978-4B28-A857-D59F50EA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3E3-4FF6-4B1D-ADD3-475DD576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CA9-F847-4A4B-9B1C-9F20788F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440-8227-4F95-8E89-C2E7176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5A64-B1F4-4185-9920-03B64E6046F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619F-4013-464B-86D3-993BFADA99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ИРУРГИЈА МАКСИЛАРНОГ СИНУС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0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28-30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атомска и хистолошка разматрања, клинички преглед и дијагностика,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кутни и хронички синузитис,повреде синуса приликом вађења зуб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7456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055C-AA5D-4FD7-AAA0-DE2C19BC533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33440" y="1636560"/>
            <a:ext cx="8373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алп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аорална палпација предњег зида максиларног синуса и интраорална палпација предела тубера врши се у случајевима сумње на запаљенска обољења максиларних си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кусиј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обољења максиларног синуса често су перкуторно осетљиви сви зуби горње вилице на оболелој стр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54C1-A8A0-49FB-8ADC-0FB55287275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33440" y="1587600"/>
            <a:ext cx="826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СТАЛИ МЕТОДИ ПРЕГЛ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оба дувања на но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ke58"/>
          <p:cNvPicPr/>
          <p:nvPr/>
        </p:nvPicPr>
        <p:blipFill>
          <a:blip r:embed="rId1"/>
          <a:srcRect l="15342" t="0" r="17918" b="-648"/>
          <a:stretch/>
        </p:blipFill>
        <p:spPr>
          <a:xfrm>
            <a:off x="2719440" y="2575080"/>
            <a:ext cx="37432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E0DC-53EE-4431-BBB2-3DDA97D29E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44600" y="1757520"/>
            <a:ext cx="8434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АДИОГРАФСКО ИСПИТИ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омена транспаренције максиларног си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здравих особа слузокожа максиларних синуса је представљ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ртг снимку 1-2 мм периферном зоном благог засенчења које прати конфигурацију коштаних зи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C:\Users\Zoran\Downloads\oralna hirurgija\slike\sinus maxillaris.jpg"/>
          <p:cNvPicPr/>
          <p:nvPr/>
        </p:nvPicPr>
        <p:blipFill>
          <a:blip r:embed="rId1"/>
          <a:stretch/>
        </p:blipFill>
        <p:spPr>
          <a:xfrm>
            <a:off x="4654440" y="4187880"/>
            <a:ext cx="2549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B52D-A5C0-44EE-AA32-53D3FCBA7A2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C:\Users\Zoran\Downloads\oralna hirurgija\slike\download (38).jpg"/>
          <p:cNvPicPr/>
          <p:nvPr/>
        </p:nvPicPr>
        <p:blipFill>
          <a:blip r:embed="rId1"/>
          <a:stretch/>
        </p:blipFill>
        <p:spPr>
          <a:xfrm>
            <a:off x="733320" y="1960560"/>
            <a:ext cx="3527640" cy="35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Zoran\Downloads\oralna hirurgija\slike\pa.jpg"/>
          <p:cNvPicPr/>
          <p:nvPr/>
        </p:nvPicPr>
        <p:blipFill>
          <a:blip r:embed="rId2"/>
          <a:stretch/>
        </p:blipFill>
        <p:spPr>
          <a:xfrm>
            <a:off x="5234040" y="1935000"/>
            <a:ext cx="2949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47D6-C6DB-4F15-8B43-06CC51EAFBF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69800" y="1852560"/>
            <a:ext cx="81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исуство се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C:\Users\Zoran\Downloads\oralna hirurgija\slike\download (39).jpg"/>
          <p:cNvPicPr/>
          <p:nvPr/>
        </p:nvPicPr>
        <p:blipFill>
          <a:blip r:embed="rId1"/>
          <a:stretch/>
        </p:blipFill>
        <p:spPr>
          <a:xfrm>
            <a:off x="1843200" y="2803680"/>
            <a:ext cx="53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C692-5E0E-46A6-BCBF-C300799F358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60360" y="1828800"/>
            <a:ext cx="854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исуство хомогених с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C:\Users\Zoran\Downloads\oralna hirurgija\slike\download (7).jpg"/>
          <p:cNvPicPr/>
          <p:nvPr/>
        </p:nvPicPr>
        <p:blipFill>
          <a:blip r:embed="rId1"/>
          <a:stretch/>
        </p:blipFill>
        <p:spPr>
          <a:xfrm>
            <a:off x="838080" y="2652840"/>
            <a:ext cx="3019680" cy="30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:\Users\Zoran\Downloads\oralna hirurgija\slike\images (18).jpg"/>
          <p:cNvPicPr/>
          <p:nvPr/>
        </p:nvPicPr>
        <p:blipFill>
          <a:blip r:embed="rId2"/>
          <a:stretch/>
        </p:blipFill>
        <p:spPr>
          <a:xfrm>
            <a:off x="4137120" y="2706840"/>
            <a:ext cx="4143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50D2-11A2-48D2-B9F2-461ED8D6461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420840" y="1587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омена континуитета коштаних зи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:\Users\Zoran\Downloads\oralna hirurgija\slike\MaxillarySinuses.jpg"/>
          <p:cNvPicPr/>
          <p:nvPr/>
        </p:nvPicPr>
        <p:blipFill>
          <a:blip r:embed="rId1"/>
          <a:stretch/>
        </p:blipFill>
        <p:spPr>
          <a:xfrm>
            <a:off x="673200" y="2209680"/>
            <a:ext cx="3638520" cy="403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http://www.gentili.net/images/200/Ctorbit2.jpg"/>
          <p:cNvPicPr/>
          <p:nvPr/>
        </p:nvPicPr>
        <p:blipFill>
          <a:blip r:embed="rId2"/>
          <a:stretch/>
        </p:blipFill>
        <p:spPr>
          <a:xfrm>
            <a:off x="5064120" y="2646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478E-BA84-46C4-A18B-D268021F455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7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44600" y="1623960"/>
            <a:ext cx="8242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ко 90% случајева недентогене етиолог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КУТНИ ДЕНТОГЕНИ СИНУЗ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ко обољење, које узрокује појаву локалних и општих симптома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Бол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локализован у пределу средње трећине лица, константан, дубок и ирадира ка горњим зубима медијално ка носу и обра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ол се појачава при сваком покрету главе јер накупљени секрет врши притисак на нервне завршетке у слузокожи си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и симптоми су 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непријатан задах , секреција из носа и непријатан укус у ус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0D22-319E-41FD-B50D-1871C4EC434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600" y="-360"/>
            <a:ext cx="800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85920" y="1792440"/>
            <a:ext cx="844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шти симптоми инфекције су: повишена температура, општа слабост и главобољ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лошки се констатује хомогено и потпун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засенчење синусне шупљи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к је по правилу увек присутан у устима ( авиталан зуб са чијег корена се инфекција преноси у синус или присутна екстракциона рана са карактеристичним изгледом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Лечењ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антибиотици, деконгестија носне слузокоже и обезбеђење дренаж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CC20-4901-44CA-B943-868A295526C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85920" y="1768320"/>
            <a:ext cx="831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РОНИЧНИ ДЕНТОГЕНИ СИНУЗ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дуготрајно запаљење слузокоже синуса које се карактерише пролиферацијом епитела и стварањем полипозних формација, као и метаплазијом епитела од респираторног ка плочастослојевитом ти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о је дентогено узрокован (ороантралне комуникације, страна тел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885A-E1E1-4701-A9A1-56BE5BC1B29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" y="16128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лази се у телу горње вилице, облика је тростране пирамиде са базом која чини бочни зид носне дупљ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inus020"/>
          <p:cNvPicPr/>
          <p:nvPr/>
        </p:nvPicPr>
        <p:blipFill>
          <a:blip r:embed="rId1"/>
          <a:srcRect l="14866" t="16293" r="24095" b="266"/>
          <a:stretch/>
        </p:blipFill>
        <p:spPr>
          <a:xfrm>
            <a:off x="2394000" y="2454120"/>
            <a:ext cx="429408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43A6-39B9-4F49-94E6-95E50625C9A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433440" y="1841400"/>
            <a:ext cx="8192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знаци хроничног синузитиса су веома благи и неспецифични, тако да обољење често бива откривено случајним радиографским испитивањем због других пр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ронични синузитис се карактерише појавом секрета који се слива у назофарингс, секретом и задахом из н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ајвећем броју случајева, узрок је претходно створена ороантрална комуникација која или није дијагностикована или је погрешно леч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205F-210E-4F49-A051-C2392B8BAEC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372960" y="1647720"/>
            <a:ext cx="8350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хроничног денталног синузитиса подразумева, пре свега, хируршко лечење узрока обољења, док је медикаментно само привремено и изводи се са циљем припреме за дефинитивно хируршко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чко лечење подразумева уклањање промењене слузокоже синуса, као и стварање артефицијалне дренаже синуса применом различитих оперативних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138F-0EAD-476D-8F0D-B8D49631C10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06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вреде синуса приликом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385920" y="1647720"/>
            <a:ext cx="833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Анатомски разло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C:\Users\Zoran\Downloads\oralna hirurgija\slike\imagesrt.jpg"/>
          <p:cNvPicPr/>
          <p:nvPr/>
        </p:nvPicPr>
        <p:blipFill>
          <a:blip r:embed="rId1"/>
          <a:stretch/>
        </p:blipFill>
        <p:spPr>
          <a:xfrm>
            <a:off x="2787480" y="2809800"/>
            <a:ext cx="345456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97C9-C9EB-4808-A30E-45DB04126AA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16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вреде синуса приликом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469800" y="169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Инфламаторни процеси на врху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C:\Users\Zoran\Downloads\oralna hirurgija\slike\proximity_of_peri-apical_lesions_to_the_maxillary_sinus_floor.jpg"/>
          <p:cNvPicPr/>
          <p:nvPr/>
        </p:nvPicPr>
        <p:blipFill>
          <a:blip r:embed="rId1"/>
          <a:srcRect l="0" t="0" r="920" b="17671"/>
          <a:stretch/>
        </p:blipFill>
        <p:spPr>
          <a:xfrm>
            <a:off x="2085840" y="2525760"/>
            <a:ext cx="461484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F21E-D649-4A52-998A-3A2850C6561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767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вреде синуса приликом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433440" y="1697040"/>
            <a:ext cx="82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Јатрогени узро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ke55"/>
          <p:cNvPicPr/>
          <p:nvPr/>
        </p:nvPicPr>
        <p:blipFill>
          <a:blip r:embed="rId1"/>
          <a:stretch/>
        </p:blipFill>
        <p:spPr>
          <a:xfrm>
            <a:off x="312840" y="2575080"/>
            <a:ext cx="3962160" cy="3027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ke57"/>
          <p:cNvPicPr/>
          <p:nvPr/>
        </p:nvPicPr>
        <p:blipFill>
          <a:blip r:embed="rId2"/>
          <a:srcRect l="13814" t="0" r="9872" b="6489"/>
          <a:stretch/>
        </p:blipFill>
        <p:spPr>
          <a:xfrm>
            <a:off x="5016600" y="2382840"/>
            <a:ext cx="349092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1138-CA4B-43CC-BDBB-1ECADA7DB62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ороантралних комуникац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312840" y="1697040"/>
            <a:ext cx="8434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ани симптом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позитивна проба дувања на н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лаз течности кроз ноздрву приликом испирања уста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некад пацијенти одмах после вађења зуба могу осетити струјање ваздуха између уста и н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дложени симптом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неколико сати после њеног наста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еномен пробушеног цигарет папира или немогућност стварања вакума у устима. Немогућност надувавања образа. Једнострано крварење на н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зни симптом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се јављају због хроничне инфламације синуса, када комуникација добија све особине фист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0830-B786-4FE4-8992-7D1A1B8E80D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ороантралних комуникац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409680" y="1684440"/>
            <a:ext cx="8180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НАЦИ СВЕЖЕ ОРОАНТРАЛНЕ КОМУН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ба дувања на нос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ондирањ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englezi2-sl16"/>
          <p:cNvPicPr/>
          <p:nvPr/>
        </p:nvPicPr>
        <p:blipFill>
          <a:blip r:embed="rId1"/>
          <a:stretch/>
        </p:blipFill>
        <p:spPr>
          <a:xfrm>
            <a:off x="2576520" y="2790720"/>
            <a:ext cx="423720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39F2-8A29-46E0-AD78-3E0DD09AB4F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ороантралних комуникац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420840" y="1697040"/>
            <a:ext cx="81691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НАЦИ ОРОАНТРАЛНЕ ФИСТ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месту извађеног зуба рана не зараста у потпу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бом дувања може да се пој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урулентни садр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сондирањем се може дијагностико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муникација алвеоле и си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C:\Users\Zoran\Downloads\oralna hirurgija\slike\download (38).jpg"/>
          <p:cNvPicPr/>
          <p:nvPr/>
        </p:nvPicPr>
        <p:blipFill>
          <a:blip r:embed="rId1"/>
          <a:stretch/>
        </p:blipFill>
        <p:spPr>
          <a:xfrm>
            <a:off x="5762520" y="2995560"/>
            <a:ext cx="2951280" cy="2951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289080" y="5041800"/>
            <a:ext cx="51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СУТНИ СУ И ЗНАЦИ СИНУЗИТ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C76A-17D6-4EED-9CF2-41701DCB67B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760" y="14580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09680" y="1511280"/>
            <a:ext cx="8324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ОНЗЕРВАТИВНА МЕТОДА 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метод којим се обезбеђује стварање и очување коагулума у рани извађеног зуба. ( дубоке и уске једнокорене алвеол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ke60"/>
          <p:cNvPicPr/>
          <p:nvPr/>
        </p:nvPicPr>
        <p:blipFill>
          <a:blip r:embed="rId1"/>
          <a:srcRect l="10662" t="6562" r="19438" b="17214"/>
          <a:stretch/>
        </p:blipFill>
        <p:spPr>
          <a:xfrm>
            <a:off x="2141640" y="3019320"/>
            <a:ext cx="45687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937D-85C5-468D-BF4F-D3409FF1050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469800" y="1757520"/>
            <a:ext cx="813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ИРУРШКА МЕТОДА ЛЕЧЕ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користе локални режњев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ук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латин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мбиновани ( букопалатиналн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о је поступак којим се изводи пластика дефекта и затвара комуникација између усне и синусне шупљ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6079-7A83-4286-BF33-B7CFE121FF9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434880" y="1914480"/>
            <a:ext cx="841860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епен пнеуматиз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обро пнеуматизован син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дно синуса  од очњака или латералног секутића до ум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редње пнеуматизован син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дно синуса од другог премолара до ум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лабо пнеуматизован син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дно синуса само изнад првог и другог мола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6C21-B54C-4F55-A99D-E6430805A39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33440" y="1623960"/>
            <a:ext cx="821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ВЕЖА КОМУНИКАЦИЈА БЕЗ СТРАНОГ ТЕЛА И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а букалним режњем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Wassmun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C:\Users\Zoran\Downloads\oralna hirurgija\slike\preview_html_m1755394b.gif"/>
          <p:cNvPicPr/>
          <p:nvPr/>
        </p:nvPicPr>
        <p:blipFill>
          <a:blip r:embed="rId1"/>
          <a:stretch/>
        </p:blipFill>
        <p:spPr>
          <a:xfrm>
            <a:off x="1122480" y="3416400"/>
            <a:ext cx="3638520" cy="2438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C:\Users\Zoran\Downloads\oralna hirurgija\slike\preview_html_m13072c13.gif"/>
          <p:cNvPicPr/>
          <p:nvPr/>
        </p:nvPicPr>
        <p:blipFill>
          <a:blip r:embed="rId2"/>
          <a:stretch/>
        </p:blipFill>
        <p:spPr>
          <a:xfrm>
            <a:off x="5403960" y="3173400"/>
            <a:ext cx="268128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010E-ED51-4361-A38F-54FC0E7BCDB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4" name="Picture 9" descr="C:\Users\Zoran\Downloads\oralna hirurgija\slike\preview_html_56653c8e.gif"/>
          <p:cNvPicPr/>
          <p:nvPr/>
        </p:nvPicPr>
        <p:blipFill>
          <a:blip r:embed="rId1"/>
          <a:stretch/>
        </p:blipFill>
        <p:spPr>
          <a:xfrm>
            <a:off x="449280" y="2227320"/>
            <a:ext cx="3870360" cy="3132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:\Users\Zoran\Downloads\oralna hirurgija\slike\preview_html_75389ddb.gif"/>
          <p:cNvPicPr/>
          <p:nvPr/>
        </p:nvPicPr>
        <p:blipFill>
          <a:blip r:embed="rId2"/>
          <a:stretch/>
        </p:blipFill>
        <p:spPr>
          <a:xfrm>
            <a:off x="4710240" y="2212920"/>
            <a:ext cx="384480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7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645B-CB29-4131-88BC-D585AE00F5C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Zoran\Downloads\oralna hirurgija\slike\JIndianSocPeriodontol_2013_17_3_354_115666_f8.jpg"/>
          <p:cNvPicPr/>
          <p:nvPr/>
        </p:nvPicPr>
        <p:blipFill>
          <a:blip r:embed="rId1"/>
          <a:stretch/>
        </p:blipFill>
        <p:spPr>
          <a:xfrm>
            <a:off x="528480" y="1373040"/>
            <a:ext cx="3287880" cy="328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Zoran\Downloads\oralna hirurgija\slike\JIndianSocPeriodontol_2013_17_3_354_115666_f9.jpg"/>
          <p:cNvPicPr/>
          <p:nvPr/>
        </p:nvPicPr>
        <p:blipFill>
          <a:blip r:embed="rId2"/>
          <a:stretch/>
        </p:blipFill>
        <p:spPr>
          <a:xfrm>
            <a:off x="4975200" y="1365120"/>
            <a:ext cx="3481560" cy="3481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Zoran\Downloads\oralna hirurgija\slike\JIndianSocPeriodontol_2013_17_3_354_115666_f14.jpg"/>
          <p:cNvPicPr/>
          <p:nvPr/>
        </p:nvPicPr>
        <p:blipFill>
          <a:blip r:embed="rId3"/>
          <a:stretch/>
        </p:blipFill>
        <p:spPr>
          <a:xfrm>
            <a:off x="2894040" y="3386160"/>
            <a:ext cx="31208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3DA-F0B5-44D8-AE1A-0DEBE8BD5DC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457200" y="1455840"/>
            <a:ext cx="819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а букалним транспозиционим реж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xhause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се користи изузетно рет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а палатиналним  транспозиционим реж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shley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C:\Users\Zoran\Downloads\oralna hirurgija\slike\Closure_of_OAC_with_Palatal_Advancement_Flap2-731x900.jpg"/>
          <p:cNvPicPr/>
          <p:nvPr/>
        </p:nvPicPr>
        <p:blipFill>
          <a:blip r:embed="rId1"/>
          <a:srcRect l="9379" t="11330" r="186" b="25419"/>
          <a:stretch/>
        </p:blipFill>
        <p:spPr>
          <a:xfrm>
            <a:off x="2598840" y="3416400"/>
            <a:ext cx="34272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8006-D885-4C4D-BC41-18BFA99E654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69800" y="1442880"/>
            <a:ext cx="8348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ВЕЖА ОРОАНТРАЛНА КОМУНИКАЦИЈА СА СТРАНИМ ТЕЛОМ У СИНУ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 модификованим букалним режњ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Wassmund-Rehrma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e79"/>
          <p:cNvPicPr/>
          <p:nvPr/>
        </p:nvPicPr>
        <p:blipFill>
          <a:blip r:embed="rId1"/>
          <a:srcRect l="15276" t="27204" r="26985" b="23886"/>
          <a:stretch/>
        </p:blipFill>
        <p:spPr>
          <a:xfrm>
            <a:off x="2443320" y="3282840"/>
            <a:ext cx="4492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5248-B69F-4198-802F-E08408F11C4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444600" y="1647720"/>
            <a:ext cx="817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РОАНТРАЛНА ФИСТУЛА ( ИНФЕКЦИЈА СИНУС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кална операција синуса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aldwell-Luck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ke81"/>
          <p:cNvPicPr/>
          <p:nvPr/>
        </p:nvPicPr>
        <p:blipFill>
          <a:blip r:embed="rId1"/>
          <a:stretch/>
        </p:blipFill>
        <p:spPr>
          <a:xfrm>
            <a:off x="2687760" y="2994120"/>
            <a:ext cx="4025880" cy="30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035D-E3FE-4801-9A7A-FED56643677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488880" y="1728720"/>
            <a:ext cx="8217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ke82"/>
          <p:cNvPicPr/>
          <p:nvPr/>
        </p:nvPicPr>
        <p:blipFill>
          <a:blip r:embed="rId1"/>
          <a:stretch/>
        </p:blipFill>
        <p:spPr>
          <a:xfrm>
            <a:off x="552600" y="2349360"/>
            <a:ext cx="3863880" cy="2899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P1010016b"/>
          <p:cNvPicPr/>
          <p:nvPr/>
        </p:nvPicPr>
        <p:blipFill>
          <a:blip r:embed="rId2"/>
          <a:stretch/>
        </p:blipFill>
        <p:spPr>
          <a:xfrm>
            <a:off x="4957920" y="2225520"/>
            <a:ext cx="386064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E82B-1E57-4B4B-BC42-6EB9C196914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ke52"/>
          <p:cNvPicPr/>
          <p:nvPr/>
        </p:nvPicPr>
        <p:blipFill>
          <a:blip r:embed="rId1"/>
          <a:srcRect l="12294" t="14931" r="20372" b="5260"/>
          <a:stretch/>
        </p:blipFill>
        <p:spPr>
          <a:xfrm>
            <a:off x="1900080" y="1865160"/>
            <a:ext cx="5195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13C-F27D-4037-8C18-320ECF5F7B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53880" y="1708200"/>
            <a:ext cx="834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ксиларни синус је, као и све остале параназалне шупљине, обложен епителом респираторног типа- цилиндричним са трепљама и пехарастим ћел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под епитела се налази слој растреситог везивног  ткива  са густом мрежом капи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oralna hirurgija\slike\sluznica.png"/>
          <p:cNvPicPr/>
          <p:nvPr/>
        </p:nvPicPr>
        <p:blipFill>
          <a:blip r:embed="rId1"/>
          <a:srcRect l="0" t="14214" r="2145" b="6250"/>
          <a:stretch/>
        </p:blipFill>
        <p:spPr>
          <a:xfrm>
            <a:off x="3057480" y="3414600"/>
            <a:ext cx="2825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D29F-C066-4F41-953E-A0B2737D293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84120" y="1539720"/>
            <a:ext cx="8398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узимања анамнестичких података, посебну пажњу треба посветити боловима, променама које пацијент запажа у устима или средњој трећини лица, као и знацима поремећеног општег стања здравља (слабост, повишена телесна температура, главобоља.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Бол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најважнији дијагностички симптом обољења максиларних синуса, а његов карактер зависи од природе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 правилу, бол је константан, локализован у дубини и појачава се при сваком покретању главе, као и приликом кашљања и кијања, када се повећава интрасинусни притис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олно подручије је типично и захвата средњу трећину лица, од медијалног угла ока до темпоралног пре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0" y="6424560"/>
            <a:ext cx="369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878F-C7D3-46CC-B880-71BE867D47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20840" y="1623960"/>
            <a:ext cx="8253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радирајући бол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 зубима горње вилице често је први симптом обољења синуса због којег пацијенти затраже помоћ прво стомато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Непријатан задах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оздрвама је, такође, симптом који пацијенти осећају због присуства више или мање обилне гнојне секреције у н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, може се јавити 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непријатан ук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устима, посебно после спавања, због сливања секрета ка назофаринг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56A4-ED70-4471-BEE4-F945EE6341C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09680" y="1576440"/>
            <a:ext cx="8277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Екстраоралном инспекцијом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уочавају се промене на лицу као последица пролиферативног раста појединих тумора, посебно малиг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траорална инспекциј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неопходан метод у дијагностици ороантралних комуникација и ф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ула, као и стања околн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оштећење слузокоже, секреција из синуса, присуство остатака зуба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0633-B240-4BF5-BEB7-9B65F0B721E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33440" y="1697040"/>
            <a:ext cx="82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траназална инспекција ( риноскопиј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Users\Zoran\Downloads\oralna hirurgija\slike\images (16).jpg"/>
          <p:cNvPicPr/>
          <p:nvPr/>
        </p:nvPicPr>
        <p:blipFill>
          <a:blip r:embed="rId1"/>
          <a:stretch/>
        </p:blipFill>
        <p:spPr>
          <a:xfrm>
            <a:off x="2576520" y="2701800"/>
            <a:ext cx="3927600" cy="29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Каја</dc:creator>
  <dc:description/>
  <dc:language>en-US</dc:language>
  <cp:lastModifiedBy>Korisnik</cp:lastModifiedBy>
  <dcterms:modified xsi:type="dcterms:W3CDTF">2019-09-09T16:03:35Z</dcterms:modified>
  <cp:revision>1616</cp:revision>
  <dc:subject/>
  <dc:title>NAZIV PREDAVANJA</dc:title>
</cp:coreProperties>
</file>